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F5F-743A-47BF-8912-37CFFB82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ED3-FD19-4115-97F9-279DD3CB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0A2-06EA-41FF-82C9-49CEF956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63E-41D0-4456-A256-0C738064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5B0-1E32-40BE-82DE-BD44B505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A76-3C0A-4824-9A8C-C7594D00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278-748F-4D37-8D89-8A43C24A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C867-AB0C-4A29-876F-02C716A9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C80-94EE-451C-A40E-2328F3AB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634-1504-43C5-A8F9-FB43823F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24F-FB0F-4789-808F-CAFDC871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012-6E04-4CD4-A481-29B4832C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2158-CDFD-4C40-9D79-F4D6A73C7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a/Penicillin-biosynthesis.pn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dermimages.med.jhmi.edu/images/Stevens_Johnson_syndrome_1_050425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hyperlink" Target="http://en.wikipedia.org/wiki/Heinrich_Quincke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ф. др Гордана Кост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ff"/>
                </a:solidFill>
                <a:latin typeface="Times New Roman"/>
              </a:rPr>
              <a:t>4. тип  -   касна реакција преосетљ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лек + лек специфични Т лимфоци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sr-C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нтактни дерматитис, грозница, молбириформни ос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ђа се код локалне примене ле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примене   ампицилина или амоксицилина → симптоми слични инфекцији  Епштајн – Баровим вирусом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 </a:t>
            </a:r>
            <a:r>
              <a:rPr b="0" lang="sr-C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ly</a:t>
            </a:r>
            <a:r>
              <a:rPr b="0" lang="sr-C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лимфоцита и </a:t>
            </a:r>
            <a:r>
              <a:rPr b="0" lang="sr-Latn-C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закаснелој макулопапулозној реакцији на бројне антибиотике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Nd9GcRP3m-AM-CFuW13_itCSDZ8r5_Zyu28teXbA9hY49mgohPAgfOeGQ"/>
          <p:cNvPicPr/>
          <p:nvPr/>
        </p:nvPicPr>
        <p:blipFill>
          <a:blip r:embed="rId2"/>
          <a:stretch/>
        </p:blipFill>
        <p:spPr>
          <a:xfrm>
            <a:off x="5486400" y="4648320"/>
            <a:ext cx="26668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657600" cy="358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РАНЕ РЕАКЦИЈ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тика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гиое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онхоспазам/рин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афилактички ш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191120" y="1295280"/>
            <a:ext cx="4952880" cy="52146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АСНЕ РЕАК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рбилиформни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куло- папулозни оси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сно појављивање уртика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ангиоед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скулит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емолитичка анемиј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омбоцитопен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утропен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vens-Johnson s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окс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епидерма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лиз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еакције мог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бити  фаталне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!На срећу рет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еком-индукован анафилакт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vens-Johnson syndrome (SJ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кс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епидермална н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олиза (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утна генерализована 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тематозна пустулоза (A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еком-индукована реакција са еозинофилијом и системским синдромом (DRES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66"/>
                </a:solidFill>
                <a:latin typeface="Times New Roman"/>
              </a:rPr>
              <a:t>Дијаг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намнез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први корак у дијагнози, значајна али често и непоуздана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80% нетачна код алергије на пеницили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жни тес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брз и осетљив за доказивањ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g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антител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пецифичне  алергене али негативан не искључује присуство а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еницилин – на присуство великих и малих детерминан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зитиван – специфичан у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гативан тест високо специфичан (97-9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умбсов тес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–  + код леком индуковане хемолитичке ан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румска триптаз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код системске дегранулације маст ћ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0066"/>
                </a:solidFill>
                <a:latin typeface="Times New Roman"/>
              </a:rPr>
              <a:t>Дијагно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VITRO ТЕ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ређивање специфичних I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ст базофилне активациј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луларни тесто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VIVO  ТЕ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ж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радер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вокативни тест л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Nd9GcQnWSPxYa6tYSbnSgPl9NR_Pyacf-UH-SS-0drMTY5OjdQi3OrYsQ"/>
          <p:cNvPicPr/>
          <p:nvPr/>
        </p:nvPicPr>
        <p:blipFill>
          <a:blip r:embed="rId1"/>
          <a:stretch/>
        </p:blipFill>
        <p:spPr>
          <a:xfrm>
            <a:off x="5029200" y="4114800"/>
            <a:ext cx="23623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66"/>
                </a:solidFill>
                <a:latin typeface="Times New Roman"/>
              </a:rPr>
              <a:t>Лече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пецифична десензибил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д пацијената с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g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антителима на одређене лек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скључиво у болн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исутна опрема за оживља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степено увођење л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372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66"/>
                </a:solidFill>
                <a:latin typeface="Times New Roman"/>
              </a:rPr>
              <a:t>Преосетљивост на бета лакта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Пеницили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чест узрок анафилак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опходни тестови на обе детерминанте (20% са анафилаксом негативно на веће детерминанте) ако су оба позити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руги антибиотик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лусинтетски пеницилини, цефалоспорини,  карбапенеми и монобак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моксицили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касна молбилиформна оспа – може се дати пеницилин без кожног теста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ксицилин/ампицилин + Е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осип без свраба у100%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о је анамнеза нејесна – кожни тест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u_sou_alergico_a_penicilina_alergia_da_penicilin_cartao_postal-p239998205900372432envli_400"/>
          <p:cNvPicPr/>
          <p:nvPr/>
        </p:nvPicPr>
        <p:blipFill>
          <a:blip r:embed="rId1"/>
          <a:stretch/>
        </p:blipFill>
        <p:spPr>
          <a:xfrm>
            <a:off x="6172200" y="-304920"/>
            <a:ext cx="259380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Преосетљивост на бета лакта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Укрштена реакција пеницилина са цефалоспориним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зитиван кожни тес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на обе детреминанте пеницилина иако је у 2% алергија и на цефалоспорине - дати алтернативни л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зитивна анамнез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за1.тип реакције) на цефалоспорине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радити кожни тест на пениц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лергија на један цефалоспори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– опрезно за дру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рбапенем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- висок степен укрштене реакције са пеницили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Датотека:Penicillin-biosynthesis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4952880"/>
            <a:ext cx="3213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762120" y="380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 ДЕЦ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еосетљивост на сулфонам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јчешћа реакција – јавља се 7-10 дана после т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акулопапулозна еруп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еосетљивост на Аспирин и НСАИЛ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нафилакса,уртикарија и/или ангиоедем, аст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еосетљивост на инсулин у 50% 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нтиконвулзивни хиперсензитивни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грожава живо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грозница,макулопапулозна оспа, лимфаденопат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индром црвеног ч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Ванкомицин- ослобађање хистамина – превенција споро давање и превентивно давање антихистами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Радиоконтрасна средств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– мијелографија и пијелогра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нафилакса-активација маст ћелија превенц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орални преднизоло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аркотични аналгетиц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опијати,морфин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иректна дегранулација мастоцит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враб,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ртикарија,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виз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ANd9GcSBidQaoDA4bq-e4iOATgqtJN0sOy8fSKJblg4xnnJwyih_MjQCzg"/>
          <p:cNvPicPr/>
          <p:nvPr/>
        </p:nvPicPr>
        <p:blipFill>
          <a:blip r:embed="rId1"/>
          <a:stretch/>
        </p:blipFill>
        <p:spPr>
          <a:xfrm>
            <a:off x="7238880" y="380880"/>
            <a:ext cx="15908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TIVENS-DŽONSONOV SINDROM I 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OKSIČNA EPIDERMALNA NEKROLIZA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азивачи леков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укокутани поремећа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tivens-Džonsonov sindrom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&lt; 10% епидерма захваће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Грозница,конфлуентне пурпурне макуле по лицу,ерозија слузнице,захваћеност јетре,бубрега и плу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oksična epidermalna nekroliz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&gt; 30% епидерма захваћ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ежа клиничка слика , тешко оштећење слуз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иф дг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са синдромом Црвеног ветра(стафилококни токс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ечењ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ртикостероиди – контравер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муноглобулини – високе дозе – позитиван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НЕЖЕЉЕНЕ РЕАКЦИЈЕ НА ЛЕКОВЕ</a:t>
            </a:r>
            <a:r>
              <a:rPr b="0" lang="sr-C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раст у дечјој популац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Могу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и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1) Предвидиве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2) Непредвид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1) Предвидив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тровање лековима, </a:t>
            </a: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дозна завис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) Непредвидив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дозно независн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диосинкратич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алергијск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сеудоалергијске 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кови који могу да изазову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purinol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clofen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buprofen, NSAI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n- steroid anti- inflammatory drugs) etravirine, Isotretinoin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cut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conazol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decoxib, sitagliptin, oseltamivir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nicill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bitur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lfonam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enytoin, azithromycin, ciprofloxac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oxcarbazepine, zonisamide, modafinil, lamotrigine, nevirapine, pyrimethamine,, ethosuximide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bamazepin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convulsants, nystatin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tevens-Johnson-syndrome-art"/>
          <p:cNvPicPr/>
          <p:nvPr/>
        </p:nvPicPr>
        <p:blipFill>
          <a:blip r:embed="rId1"/>
          <a:stretch/>
        </p:blipFill>
        <p:spPr>
          <a:xfrm>
            <a:off x="5029200" y="4495680"/>
            <a:ext cx="3809880" cy="2114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1301040" y="384120"/>
            <a:ext cx="59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IVENS-DŽONSONOV SINDROM I 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OKSIČNA EPIDERMALNA NEKROL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TIVENS-DŽONSONOV SINDROM I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OKSIČNA EPIDERMALNA NEKRO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Dermatology - FACE: Stevens-Johnson syndrome  - drug reaction, ciprofloxac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581280"/>
            <a:ext cx="392724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teven's-johnson-left-745_small"/>
          <p:cNvPicPr/>
          <p:nvPr/>
        </p:nvPicPr>
        <p:blipFill>
          <a:blip r:embed="rId3"/>
          <a:stretch/>
        </p:blipFill>
        <p:spPr>
          <a:xfrm>
            <a:off x="685800" y="1600200"/>
            <a:ext cx="2171880" cy="1981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ANd9GcRpuKDKa7F1BDcXaJ6eS6nG6fidKtfuI9xFLsDqq_LN_3dmljDA"/>
          <p:cNvPicPr/>
          <p:nvPr/>
        </p:nvPicPr>
        <p:blipFill>
          <a:blip r:embed="rId4"/>
          <a:stretch/>
        </p:blipFill>
        <p:spPr>
          <a:xfrm>
            <a:off x="533520" y="3962520"/>
            <a:ext cx="3504960" cy="250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ANd9GcSJSeerx7oIB7AjlLsA3pAwJP-sMpQiSe7TEW3WGyXz-M2Z6IQpVw"/>
          <p:cNvPicPr/>
          <p:nvPr/>
        </p:nvPicPr>
        <p:blipFill>
          <a:blip r:embed="rId5"/>
          <a:stretch/>
        </p:blipFill>
        <p:spPr>
          <a:xfrm>
            <a:off x="32767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ANd9GcQ1cRmCKkrBTsc9WNVOIOOK9-XCyAKA7jQs6GPtRo9qi0zycqDd_A"/>
          <p:cNvPicPr/>
          <p:nvPr/>
        </p:nvPicPr>
        <p:blipFill>
          <a:blip r:embed="rId6"/>
          <a:stretch/>
        </p:blipFill>
        <p:spPr>
          <a:xfrm>
            <a:off x="6172200" y="1447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Препор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imum non noc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пречити масовну појаву употребе лекова у педијатр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епознати децу која су у ризику за настанак нежељених еф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едност дати оралној употреби л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осматрати пацијента после употребе лека и мислити на ране и касне алергијске реак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061117_drawing"/>
          <p:cNvPicPr/>
          <p:nvPr/>
        </p:nvPicPr>
        <p:blipFill>
          <a:blip r:embed="rId1"/>
          <a:stretch/>
        </p:blipFill>
        <p:spPr>
          <a:xfrm>
            <a:off x="2286000" y="1981080"/>
            <a:ext cx="6391440" cy="435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Bactrim"/>
          <p:cNvPicPr/>
          <p:nvPr/>
        </p:nvPicPr>
        <p:blipFill>
          <a:blip r:embed="rId2"/>
          <a:stretch/>
        </p:blipFill>
        <p:spPr>
          <a:xfrm>
            <a:off x="304920" y="380880"/>
            <a:ext cx="31240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НЕЖЕЉЕНЕ РЕАКЦИЈЕ НА ЛЕК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sr-CS" sz="3200" spc="-1" strike="noStrike">
                <a:solidFill>
                  <a:srgbClr val="ff0066"/>
                </a:solidFill>
                <a:latin typeface="Times New Roman"/>
              </a:rPr>
              <a:t>Алергијске реакциј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g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редова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g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редова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нзибилиза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наци и симптоми везани за алергиј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еханизам (анафилакса и уртикариј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енетска предиспоз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ehanizam-alergijske-reakcije"/>
          <p:cNvPicPr/>
          <p:nvPr/>
        </p:nvPicPr>
        <p:blipFill>
          <a:blip r:embed="rId4"/>
          <a:stretch/>
        </p:blipFill>
        <p:spPr>
          <a:xfrm>
            <a:off x="5943600" y="1219320"/>
            <a:ext cx="2657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Епидемиологиј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инциденца у деце - слабо поз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код хоспитализованих око 6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фаталан исход у 0,3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00ff"/>
                </a:solidFill>
                <a:latin typeface="Times New Roman"/>
              </a:rPr>
              <a:t>највећи број нежељених реак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2800" spc="-1" strike="noStrike">
                <a:solidFill>
                  <a:srgbClr val="0000ff"/>
                </a:solidFill>
                <a:latin typeface="Times New Roman"/>
              </a:rPr>
              <a:t>није алергијске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CS" sz="2800" spc="-1" strike="noStrike">
                <a:solidFill>
                  <a:srgbClr val="ff0066"/>
                </a:solidFill>
                <a:latin typeface="Times New Roman"/>
              </a:rPr>
              <a:t>алергијске природе 6-10</a:t>
            </a:r>
            <a:r>
              <a:rPr b="0" lang="sr-CS" sz="2800" spc="-1" strike="noStrike">
                <a:solidFill>
                  <a:srgbClr val="ff0066"/>
                </a:solidFill>
                <a:latin typeface="Times New Roman"/>
              </a:rPr>
              <a:t>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R79VkNW8rxzjBUs3N8s4ciWHHboCzSsEYdCRPwLLYqIVGR-j_TOQ"/>
          <p:cNvPicPr/>
          <p:nvPr/>
        </p:nvPicPr>
        <p:blipFill>
          <a:blip r:embed="rId1"/>
          <a:stretch/>
        </p:blipFill>
        <p:spPr>
          <a:xfrm>
            <a:off x="5638680" y="44197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атоген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мунолошки посредоване нежељене реакције класификација по 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Coombsu i Gellu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1. тип  - рана реакција преосетљ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2. тип  - реакција цитотоксичних анти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3. тип  - реакција имуних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4. тип  - касна реакција преосетљ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линичка с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66"/>
                </a:solidFill>
                <a:latin typeface="Times New Roman"/>
              </a:rPr>
              <a:t>Клиничку слику одређује тип алергијске реакције који је настао наком примене лека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lergijski%20sok"/>
          <p:cNvPicPr/>
          <p:nvPr/>
        </p:nvPicPr>
        <p:blipFill>
          <a:blip r:embed="rId1"/>
          <a:stretch/>
        </p:blipFill>
        <p:spPr>
          <a:xfrm>
            <a:off x="228600" y="3352680"/>
            <a:ext cx="2570040" cy="2895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230px-Angioedema2010"/>
          <p:cNvPicPr/>
          <p:nvPr/>
        </p:nvPicPr>
        <p:blipFill>
          <a:blip r:embed="rId2"/>
          <a:stretch/>
        </p:blipFill>
        <p:spPr>
          <a:xfrm>
            <a:off x="2590920" y="3352680"/>
            <a:ext cx="182880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7035922667_1bc8a2d441"/>
          <p:cNvPicPr/>
          <p:nvPr/>
        </p:nvPicPr>
        <p:blipFill>
          <a:blip r:embed="rId3"/>
          <a:stretch/>
        </p:blipFill>
        <p:spPr>
          <a:xfrm>
            <a:off x="4495680" y="3352680"/>
            <a:ext cx="191952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healing"/>
          <p:cNvPicPr/>
          <p:nvPr/>
        </p:nvPicPr>
        <p:blipFill>
          <a:blip r:embed="rId4"/>
          <a:stretch/>
        </p:blipFill>
        <p:spPr>
          <a:xfrm>
            <a:off x="6477120" y="3352680"/>
            <a:ext cx="2485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600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1. тип  - рана реакција преосетљ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лек или метаболи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лек спец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g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маст ћел (базофи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јатори (хистамин, леукотријени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ртикарија, бронхоспазам и/или анафила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ehanizam-alergijske-reakcije"/>
          <p:cNvPicPr/>
          <p:nvPr/>
        </p:nvPicPr>
        <p:blipFill>
          <a:blip r:embed="rId2"/>
          <a:stretch/>
        </p:blipFill>
        <p:spPr>
          <a:xfrm>
            <a:off x="7315200" y="914400"/>
            <a:ext cx="1362240" cy="1123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quincke"/>
          <p:cNvPicPr/>
          <p:nvPr/>
        </p:nvPicPr>
        <p:blipFill>
          <a:blip r:embed="rId3"/>
          <a:stretch/>
        </p:blipFill>
        <p:spPr>
          <a:xfrm>
            <a:off x="5943600" y="3657600"/>
            <a:ext cx="2381400" cy="1781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4800600" y="5562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einrich Quinc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described the clinical pi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ngioedema in 188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ANd9GcSLfvs-I7YylpP24DMS7s8HpJn6tRcmvEz-5_klz8uVNFzMyd0NBw"/>
          <p:cNvPicPr/>
          <p:nvPr/>
        </p:nvPicPr>
        <p:blipFill>
          <a:blip r:embed="rId5"/>
          <a:stretch/>
        </p:blipFill>
        <p:spPr>
          <a:xfrm>
            <a:off x="533520" y="3429000"/>
            <a:ext cx="2347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2. тип  - реакција цитотоксичних анти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нтиген лека на мембрани ћел +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g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gM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антитела + серумски комплемент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ништавање ћелија моноцитномакрофагног систем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литичка а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ја,  тромбоцитопениј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ANd9GcTlJmiDNff-YObty765fvm_f4uwRBTAvKfODrov7BVmmydkWM92"/>
          <p:cNvPicPr/>
          <p:nvPr/>
        </p:nvPicPr>
        <p:blipFill>
          <a:blip r:embed="rId2"/>
          <a:stretch/>
        </p:blipFill>
        <p:spPr>
          <a:xfrm>
            <a:off x="4952880" y="40384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9900"/>
                </a:solidFill>
                <a:latin typeface="Times New Roman"/>
              </a:rPr>
              <a:t>3. тип  - реакција имуних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олубилни комплекс лека (или метаболита)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g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gM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антител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ложење у зидовима крвних суд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 као у серумској боле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грозница, уртикарија,свраб, лимфаденопатија, артрал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се јављају 1-3 недеље након последње дозе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лаче се када се лек или његов метаболит излуче из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Qpnuj_-i6XDI12reOd3Mp5yz8QW7mPEmO0EgsoUB071Ro1ES5krQ"/>
          <p:cNvPicPr/>
          <p:nvPr/>
        </p:nvPicPr>
        <p:blipFill>
          <a:blip r:embed="rId2"/>
          <a:stretch/>
        </p:blipFill>
        <p:spPr>
          <a:xfrm>
            <a:off x="6324480" y="4791240"/>
            <a:ext cx="22194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risnik</cp:lastModifiedBy>
  <dcterms:modified xsi:type="dcterms:W3CDTF">2020-09-17T19:01:1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